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62F-E5BB-4037-9795-2D7D3635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0A3-FCD3-42C7-8507-7687A1DC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055-ADE2-4C86-A1C1-2C00A7F9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BDC-0ED6-4EA5-92A2-BC953F3E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2AD5-95A6-45D9-B9A5-07FE122D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A798-2919-4137-914E-63C8F076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456-BCA4-4855-A114-38CCC0C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B43-EC1E-44D1-A616-E5F5545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3CA2-6B17-4298-80CE-40A5DBB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49D5-CF1B-4F80-A876-1D050F7D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6954-BE54-4114-A848-05CD4EC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399-578A-4500-A073-4A6C3B9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2639-E795-4A91-8FBF-A88F3BA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7171-49DC-4252-9EBF-0D5D2B0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86C6-5574-41B4-9D4B-46158B1D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B00-7CC9-4F07-902C-F18A14D7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209-65F0-4C67-8B11-1135549F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C13-9599-4DBF-A78E-2F673778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13F-D398-4EF4-BB3C-A71853BE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92F-BB75-4536-8D6C-FBEDFF49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EDF-790A-42AF-9CBA-3860EA7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C9B-4DE0-4B29-B9FB-4B94FC7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2CA-862E-43EB-82E4-76CFC94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1C0-C538-4060-AFEF-300ABC3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5BC-1E03-4E44-9835-069E4E183D54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F412-84C0-48B1-AEFA-53BC254A65DB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Biztonsági őrzé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Komplex védel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4472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Elem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0920" y="54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66cc"/>
                </a:solidFill>
                <a:latin typeface="Tahoma"/>
              </a:rPr>
              <a:t>Vitatott: Titokvédelem, adatvédelem, üzleti hírszerzés</a:t>
            </a:r>
            <a:br>
              <a:rPr sz="2000"/>
            </a:br>
            <a:r>
              <a:rPr b="1" lang="hu-HU" sz="2000" spc="-1" strike="noStrike">
                <a:solidFill>
                  <a:srgbClr val="ff66cc"/>
                </a:solidFill>
                <a:latin typeface="Tahoma"/>
              </a:rPr>
              <a:t>                 elhárít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0920" y="4508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előző három elem működésének összhangja, a működtetésükre kiadott rendelkezések rendsz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50920" y="3933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élőerős 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50920" y="328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lektronikai jelező- és riasztó rendsze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50920" y="2565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echanikai védelmi rendsze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Mechan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155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Elem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13372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építészeti elemek: falak, padlózatok, födémek, tetőszerkezet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63700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erítések, kapuk, sorompók, mechanikai beléptető rendsze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321300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jtók, ablakok, biztonsági üvegek, biztonsági fóli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378936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zárak, lakatok, kulcsok, rácsok, redőnyö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436572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speciális létesítmények, értéktárak, trezor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86900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pénz- és érték tárolására szolgáló eszközök, páncélszekr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544500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gyéb speciális eszközök, készülékek, berendez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Mechanika célj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166920" y="2421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egelőzés, elrettentés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generális preven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501336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ámadás ütemének lassí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364500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Védelem:   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objektum, vagyontárgyak, tevékenység,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személyek, beleértve az őrséget is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932120" cy="1449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Elektron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892440" cy="1098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1432080" cy="1084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769680" cy="1082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124000" y="2276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Felület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1341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z elektronikai rendszer elem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76720" y="2349360"/>
            <a:ext cx="1201680" cy="1084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076720" y="4076640"/>
            <a:ext cx="1306440" cy="1108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11280" y="3429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Terület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4941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Tárgy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80000" y="2852640"/>
            <a:ext cx="24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Személy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4365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Riasztó jel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Elektron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 jelző- riasztó rendszerek főbb egység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55897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riasztó jelzést vevő központ – táv-felügy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133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érzékelő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jeltovábbítás eszköz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3357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riasztóközp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4005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riasztó jelzést adó eszköz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6530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szünetmentes tápegy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1706760" cy="1467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Elektronika célj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1844640"/>
            <a:ext cx="56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egelőzés, elrettentés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generális preven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285264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0000"/>
                </a:solidFill>
                <a:latin typeface="Tahoma"/>
              </a:rPr>
              <a:t>Riasztás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rendkívüli esem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349360"/>
            <a:ext cx="56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elzés –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 rendeltetésszerű működés esemény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45086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Lezárás –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mechanikai eszközök működtetésé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335592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Támadás előkészülete, támadás, támadók mozg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4005360"/>
            <a:ext cx="63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Tűz, robbanás, katasztrófa, egyéb esem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5013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őrség védelme, magatartásának figyelemmel kísé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5897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események napló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Munkakörö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133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Őr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pontő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2637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ísérő őr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személy, szállítmán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3141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árőr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belső, külső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6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ozgóő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133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Portás, kapus, recepció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87280" y="3716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Diszpécser, ügyel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2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utyás ő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laptevékenységet végző áll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3789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Önálló előad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44370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dminisztratív áll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50846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lőadók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bérszámfejtő, TB)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titkárnők, adminisztrátor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7340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Pénztáros, raktáros, anyagbeszerző, takarít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Vezetői beosztá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1844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Nem szervezetszerű vezet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2421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Szervezetszerű vezet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4653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Felső vezető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vezérigazgató, igazgató, üzletágvezető,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386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özépvezető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kirendeltség vezető, fő-csoportvezető,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87280" y="2997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özvetlen vezető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csoportvezető, váltásvezető,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87280" y="5516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ahoma"/>
              </a:rPr>
              <a:t>Igazolvány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csak akkor szükséges, ha a tevékenységet szakmailag szervezi, vagy irány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Az élőerős őrzés célj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421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mechanikai és elektronikai eszközök működtetése, felügy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414972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rendkívüli események elhárítása, illetve közreműködés az elhárításáb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3213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 működésének biztonsági szempontból való figyelemmel kísérése, az objektum rendjének biztosí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egelőzés, elrettentés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generális és speciális prevenci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50133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Takarékossági intézked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558972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Munkavédelmi, tűzmegelőzési intézked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Biztonsági szabályz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1844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 rendjére vonatkozó szabályzatot a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tulajdonos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vagy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birtokos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illetve ezek megbízottja)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dja 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458136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ulajdonos határozza meg, hogy az objektumba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ilyen célból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lehet belépni, és ott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ilyen feltételeket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kell betart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2781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rendelkezések kereteit a jogszabályok határozzák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33577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jogszabályok keretei között a tulajdonos szabadon rendelkezhet, hogy az objektumban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ilyen magatartásokat ír elő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,  és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ilyen intézkedéseket határoz meg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d60093"/>
                </a:solidFill>
                <a:latin typeface="Tahoma"/>
              </a:rPr>
              <a:t>Biztonsági őrzési szolgáltatá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4472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Fo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123516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00360" y="1989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Intézkedések és megoldások összesség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249228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amelyet a szolgáltató vagy dolgozói foganatosítana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335772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polgári jogi jellegű szerződés alapjá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93372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mint a megrendelő megbízotta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443700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hogy megvédjék az életet, testi épséget és egészsége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530064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a vagyont, és minden más objektumot, amelyet a törvény védelemben részesí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Biztonsági szabályz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1628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Általános </a:t>
            </a:r>
            <a:r>
              <a:rPr b="0" lang="hu-HU" sz="2400" spc="-1" strike="noStrike">
                <a:solidFill>
                  <a:srgbClr val="00ff00"/>
                </a:solidFill>
                <a:latin typeface="Tahoma"/>
              </a:rPr>
              <a:t>(mindenkire vonatkozó) </a:t>
            </a: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szabál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4149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z őrségre vonatkozó szabál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2780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egjelenhet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78136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gy szabályzatban vagy részterületekre vonatkozó szabályzatok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52293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gy szabályzatban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ez az általán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ülönböző dokumentumokban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ez az általán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4724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egjelenhet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7340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ülönböző dokumentumok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Tárgyi hatá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2997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Gépjárművek be- és kihajtása, rakomány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3573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Kulcskezel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4922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Tárgyak be- és kivitele, csomag- és ruházatátvizsg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1989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Be- és kilép-tet-és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személyazonosság, jogosultság, ittassá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4724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szabályok megszegésének következmény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14972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ban tartózkodás szabály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522936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Az őrség intézkedései a szabályok betartatására, illetve a szabályok megszegése eset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Személyi hatál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116000" y="5661000"/>
            <a:ext cx="756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443700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Ügyfelek, látogatók, egyéb belépők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együttesen: látogató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1916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ulajdonossal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munkajogi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jogviszonyban álló személ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2492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Munkaszerz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306864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ulajdonossal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polgári jogi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jogviszonyban álló személ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27280" y="3789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Polgári jogi szerző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50846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Polgári jogi szerződés – ráutaló magatartás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Látogató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1484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 látogatók kötelezésének alap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85264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ulajdonos a belépő személynek engedélyezi az objektum használatát, meghatározott célból és meghatározott feltételek betartása melle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71640" y="206064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belépő, vagy benn tartózkodó személy használja az objektum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508464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mennyiben a látogató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– a tájékoztatást követően –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belép, </a:t>
            </a: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ráutaló magatartással elfogadja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az objektum rendjére vonatkozó szabályo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400536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feltételekről a belépésnél tájékoztatni kell a látogatót </a:t>
            </a:r>
            <a:r>
              <a:rPr b="0" lang="hu-HU" sz="2000" spc="-1" strike="noStrike">
                <a:solidFill>
                  <a:srgbClr val="ffff00"/>
                </a:solidFill>
                <a:latin typeface="Tahoma"/>
              </a:rPr>
              <a:t>(a bejáratnál elhelyezett tájékoztatóban, vagy a beléptető személy ál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Őr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19162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védelmi szervezet felépítése, irányítása, létszá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34290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őrség jogai és kötelességei, intézkedései az objektum rendjének betartat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24922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védelmi szervezet feladatai, őrhelyek, tevékenységi form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4437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rendkívüli események kezel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5084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Jelentési kötelezettségek, az intézkedések dokument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-Objektumvédelem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-Objektumvédelem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116000" y="638172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-Objektumvédelem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Területe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99960" cy="1087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1684440" cy="1263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38520" y="3645000"/>
            <a:ext cx="1252800" cy="482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2133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Személy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2133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Objektum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50920" y="3571920"/>
            <a:ext cx="1090440" cy="62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4653000"/>
            <a:ext cx="1141200" cy="1457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371628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Járőrszolgá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71628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Pénzszállí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51577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Rendezvénybiztosí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932360" y="4581360"/>
            <a:ext cx="838080" cy="123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72360" y="508464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Objektumvédel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708280"/>
            <a:ext cx="62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Biztonsági szolgáltatások, meghatározott hatáskörrel, egy maghatározott hely vagy vagyontárgy vonatkozásában, meghatározott idő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684440" cy="1263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2062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Objektumőr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4221000"/>
            <a:ext cx="76341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 szolgáltatás célja:</a:t>
            </a: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Megvalósítsa és biztosítsa a rendet és biztonságot, felismerje és megelőzze a veszélyhelyzetek és károk bekövetkezését az épületekben vagy objektumokb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Járőrszolgál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1252800" cy="482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662200" y="198756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Járőrszolgá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70828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Biztonsági szolgáltatásnak az a formája, amikor a járőr több egymástól fizikai távol lévő objektumot ellenőri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350028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meghatározott rendszerességgel, de alkalmakként csak rövid idei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43657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hogy felismerje és megelőzze a veszélyhelyzetek és károk bekövetkezését, illet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51577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bekövetkezésük esetén megtegye az elhárítás érdekében szükséges intézkedése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Objektu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49228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épület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vagy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műtárgy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, a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hozzá tartozó terület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, az ott lévő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ingó dolgok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és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személyek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, valamint az ott folytatott </a:t>
            </a:r>
            <a:r>
              <a:rPr b="1" lang="hu-HU" sz="2000" spc="-1" strike="noStrike">
                <a:solidFill>
                  <a:srgbClr val="cc3300"/>
                </a:solidFill>
                <a:latin typeface="Tahoma"/>
              </a:rPr>
              <a:t>tevékenység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1916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z objektum fo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933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Rendeltetésszerű működ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65444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Ha a vagyont annak a célnak elérése érdekében működtetik, illetve arra használják, amiért létrehoztá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Védelem célj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916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Károk csoportos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2492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Belső kár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49228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rendeltetésszerű működtetés során bekövetkező káresem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284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Külső kár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328464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rendeltetésszerű működtetésen kívüli káresem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41497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 védelem cé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47721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külső  károk megelőzés, elhárítása, káros következményeinek enyhí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589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lsősorban biztonságtechnikai eszközökkel és fizikai jelenléttel, ha szükséges fizikai erő alkalmazás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826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Objektumvédelem fogal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1844640"/>
            <a:ext cx="82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 elleni támadások, illetve az egyéb károsító események megelőzésével, elhárításával, káros következményeinek enyhítésével, tovább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997360"/>
            <a:ext cx="82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védelmi szervezet feladatkörébe utalt egyéb feladatok ellátás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292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az ott tartózkodó személyek életének, testi épségének, egészségének megóvás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5084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az ott folytatott tevékenység zavartalanságának biztosítás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3789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ahoma"/>
              </a:rPr>
              <a:t>az  objektumban megtestesülő vagyoni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551664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elsősorban biztonságtechnikai eszközök és fizikai erő alkalmazás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60093"/>
                </a:solidFill>
                <a:latin typeface="Tahoma"/>
              </a:rPr>
              <a:t>Biztonsági tényező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34936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termelt vagy tárolt dolgok je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84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 rendeltetése, a tevékenység je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292428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földrajzi, területi elhelyezked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környezet és az objektum bűnügyi, közbiztonsági helyz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39337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z objektum nagysá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4437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dolgozók száma és jellemző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49417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ahoma"/>
              </a:rPr>
              <a:t>a gépjármű és személyforgal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589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ahoma"/>
              </a:rPr>
              <a:t>az objektum komplex védelmi rendsz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6521400"/>
            <a:ext cx="80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 Biztonsági őrzés-2007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6:35:03Z</dcterms:created>
  <dc:creator>user</dc:creator>
  <dc:description/>
  <dc:language>en-US</dc:language>
  <cp:lastModifiedBy>user</cp:lastModifiedBy>
  <dcterms:modified xsi:type="dcterms:W3CDTF">2007-02-18T15:47:08Z</dcterms:modified>
  <cp:revision>11</cp:revision>
  <dc:subject/>
  <dc:title>Biztonsági őrz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